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1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24.jpeg" ContentType="image/jpeg"/>
  <Override PartName="/ppt/media/image3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4.wmf" ContentType="image/x-wmf"/>
  <Override PartName="/ppt/media/image27.wmf" ContentType="image/x-wmf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630F3A-694A-4C18-B8FE-B85D5F9B8844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ly connected to serial lin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-band &amp; out-of-b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fer to Cyclades white paper ‘Remote Management Of Windows Servers’ (windows_wp.pdf) for phone line ana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망내관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망외관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콘솔포트를 이용한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nix servers have auxiliary serial console por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 terminal emulator (ex: HyperTerminal in Windows) to serial consol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ven PC-class hardware can be run headless with special BIOS and add-in console card. (ref: LISA2002-T12.pdf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AD7-7CB7-4D18-A698-F513D59A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C1E-EE2E-44D7-874E-4E1AB3B0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173-9E62-4E6D-85FD-CC00ECF3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BCE-47C5-4DC9-9A4F-1866915D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9F8-7C10-4AFC-8E14-E425E967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D23-C69B-4693-ABF0-D453F73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CFE-E001-4C31-A302-A94FBA4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87D-B2DF-4177-ADE2-82B88B8C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763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82A-9D58-474E-BA98-988CC42D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FDC-E191-4CB8-A841-7459159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FF3-A972-47A1-A268-85CCEB7B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D6A-FE56-4F34-AB13-3982388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52280"/>
            <a:ext cx="9144000" cy="7617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48C5-8356-4DFE-ABF4-26B0FD70A2EF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가로400" descr=""/>
          <p:cNvPicPr/>
          <p:nvPr/>
        </p:nvPicPr>
        <p:blipFill>
          <a:blip r:embed="rId2"/>
          <a:stretch/>
        </p:blipFill>
        <p:spPr>
          <a:xfrm>
            <a:off x="6705720" y="6396120"/>
            <a:ext cx="2286000" cy="309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71080" y="63388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</a:rPr>
              <a:t>www.sena.c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2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ts3200" descr=""/>
          <p:cNvPicPr/>
          <p:nvPr/>
        </p:nvPicPr>
        <p:blipFill>
          <a:blip r:embed="rId1"/>
          <a:stretch/>
        </p:blipFill>
        <p:spPr>
          <a:xfrm>
            <a:off x="1219320" y="3828960"/>
            <a:ext cx="617220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73080" y="63244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, 200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0" y="-152280"/>
            <a:ext cx="9144000" cy="24382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SENA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172200"/>
            <a:ext cx="2514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sena_logo_main_heade" descr=""/>
          <p:cNvPicPr/>
          <p:nvPr/>
        </p:nvPicPr>
        <p:blipFill>
          <a:blip r:embed="rId2"/>
          <a:stretch/>
        </p:blipFill>
        <p:spPr>
          <a:xfrm>
            <a:off x="7162920" y="6086520"/>
            <a:ext cx="1828800" cy="61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248520"/>
            <a:ext cx="2286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69640" y="62326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, 200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920"/>
            <a:ext cx="807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TS Serie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sole Management 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e-Stop Solution in Device Net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77120" y="914400"/>
            <a:ext cx="2286000" cy="3352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914400"/>
            <a:ext cx="51055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sole serv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ted console management point for different type of de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/remote accessibility via various b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167616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cpv_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1120" cy="393840"/>
          </a:xfrm>
          <a:prstGeom prst="rect">
            <a:avLst/>
          </a:prstGeom>
          <a:ln w="0">
            <a:noFill/>
          </a:ln>
        </p:spPr>
      </p:pic>
      <p:pic>
        <p:nvPicPr>
          <p:cNvPr id="92" name="TSP242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60480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295280" y="1600200"/>
          <a:ext cx="338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600200"/>
                    <a:ext cx="338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fisc_cdm" descr=""/>
          <p:cNvPicPr/>
          <p:nvPr/>
        </p:nvPicPr>
        <p:blipFill>
          <a:blip r:embed="rId5"/>
          <a:stretch/>
        </p:blipFill>
        <p:spPr>
          <a:xfrm>
            <a:off x="584280" y="190512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drerammirh" descr=""/>
          <p:cNvPicPr/>
          <p:nvPr/>
        </p:nvPicPr>
        <p:blipFill>
          <a:blip r:embed="rId6"/>
          <a:stretch/>
        </p:blipFill>
        <p:spPr>
          <a:xfrm>
            <a:off x="838080" y="2666880"/>
            <a:ext cx="41616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vts3200" descr=""/>
          <p:cNvPicPr/>
          <p:nvPr/>
        </p:nvPicPr>
        <p:blipFill>
          <a:blip r:embed="rId7"/>
          <a:stretch/>
        </p:blipFill>
        <p:spPr>
          <a:xfrm>
            <a:off x="2514600" y="1981080"/>
            <a:ext cx="2514600" cy="104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010280" y="1371600"/>
            <a:ext cx="10414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86600" y="1782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nagement S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nsole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438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914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0000"/>
                </a:solidFill>
                <a:latin typeface="Verdana"/>
              </a:rPr>
              <a:t>Everwhe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514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nsole Cli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MasterPortconnection" descr=""/>
          <p:cNvPicPr/>
          <p:nvPr/>
        </p:nvPicPr>
        <p:blipFill>
          <a:blip r:embed="rId9"/>
          <a:stretch/>
        </p:blipFill>
        <p:spPr>
          <a:xfrm>
            <a:off x="6705720" y="3352680"/>
            <a:ext cx="2438280" cy="1632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1080" y="2438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vts3200" descr=""/>
          <p:cNvPicPr/>
          <p:nvPr/>
        </p:nvPicPr>
        <p:blipFill>
          <a:blip r:embed="rId1"/>
          <a:stretch/>
        </p:blipFill>
        <p:spPr>
          <a:xfrm>
            <a:off x="3809880" y="4686480"/>
            <a:ext cx="5029200" cy="209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Over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Remote management over IT/Telco equip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n-band connection via LAN or wireless 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out-of-band connection via dial-up(PSTN) or broadband (ADSL/Cab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Easy user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enu-based (system console/telnet/We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Linux shell based (system console/telne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Port 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ort buffering (memory/ATA flash card/NFS/Syslog) and port sniff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ultiple Java applets for port access on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Various PCCard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storage: ATA fla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connection: wired/wireless LAN, PSTN mod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uthentication: SSH v1&amp;v2, RADIUS, LDAP, TACACS+, (Kerber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different user level: root, admin, port admin, u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user access control per 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P filte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</a:t>
            </a:r>
            <a:r>
              <a:rPr b="0" lang="ko-KR" sz="3600" spc="-1" strike="noStrike">
                <a:solidFill>
                  <a:srgbClr val="ffffff"/>
                </a:solidFill>
                <a:latin typeface="Verdana"/>
              </a:rPr>
              <a:t>Overview: Exterior 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BroadCarrier-A-480R" descr=""/>
          <p:cNvPicPr/>
          <p:nvPr/>
        </p:nvPicPr>
        <p:blipFill>
          <a:blip r:embed="rId1"/>
          <a:stretch/>
        </p:blipFill>
        <p:spPr>
          <a:xfrm>
            <a:off x="4343400" y="5181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11" name="WaveStar_AM1" descr=""/>
          <p:cNvPicPr/>
          <p:nvPr/>
        </p:nvPicPr>
        <p:blipFill>
          <a:blip r:embed="rId2"/>
          <a:stretch/>
        </p:blipFill>
        <p:spPr>
          <a:xfrm>
            <a:off x="274320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VTS3200__" descr=""/>
          <p:cNvPicPr/>
          <p:nvPr/>
        </p:nvPicPr>
        <p:blipFill>
          <a:blip r:embed="rId3"/>
          <a:stretch/>
        </p:blipFill>
        <p:spPr>
          <a:xfrm>
            <a:off x="304920" y="1666800"/>
            <a:ext cx="8610480" cy="2295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00200" y="41911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S232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ol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5120" y="3657600"/>
            <a:ext cx="1600560" cy="1371600"/>
            <a:chOff x="2895120" y="3657600"/>
            <a:chExt cx="1600560" cy="1371600"/>
          </a:xfrm>
        </p:grpSpPr>
        <p:sp>
          <p:nvSpPr>
            <p:cNvPr id="115" name=""/>
            <p:cNvSpPr/>
            <p:nvPr/>
          </p:nvSpPr>
          <p:spPr>
            <a:xfrm>
              <a:off x="3657600" y="365760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895120" y="464832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56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40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12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84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5" name="prd_lg_3c16593b" descr="3Com® SuperStack® 3 Baseline Dual Speed Hub 24-Port"/>
          <p:cNvPicPr/>
          <p:nvPr/>
        </p:nvPicPr>
        <p:blipFill>
          <a:blip r:embed="rId4"/>
          <a:stretch/>
        </p:blipFill>
        <p:spPr>
          <a:xfrm>
            <a:off x="3657600" y="5105520"/>
            <a:ext cx="126540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gbt1000-img5" descr=""/>
          <p:cNvPicPr/>
          <p:nvPr/>
        </p:nvPicPr>
        <p:blipFill>
          <a:blip r:embed="rId5"/>
          <a:stretch/>
        </p:blipFill>
        <p:spPr>
          <a:xfrm>
            <a:off x="1981080" y="5105520"/>
            <a:ext cx="1524240" cy="50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2971800"/>
            <a:ext cx="52578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267080"/>
            <a:ext cx="137160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20138"/>
              <a:gd name="adj5" fmla="val -143750"/>
              <a:gd name="adj6" fmla="val -353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stem console por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724280"/>
            <a:ext cx="2362320" cy="106704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-6722"/>
              <a:gd name="adj5" fmla="val -98513"/>
              <a:gd name="adj6" fmla="val -10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-band connection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/100 Base-T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ut-of-band connection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SL/C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762120"/>
            <a:ext cx="480060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105754"/>
              <a:gd name="adj5" fmla="val 107550"/>
              <a:gd name="adj6" fmla="val 1100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C Card interfa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-band connec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ired/wireless LAN c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ut-of-band connec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m, (ADSL/Cable mode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 buffering and configuration file saving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ash memory c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648320"/>
            <a:ext cx="16002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09027"/>
              <a:gd name="adj5" fmla="val -213194"/>
              <a:gd name="adj6" fmla="val 1133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rnal mod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ny serial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717640"/>
            <a:ext cx="1447920" cy="5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Verdana"/>
              </a:rPr>
              <a:t>Power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 110~240V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Overview: Operation &amp; Instal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57480" y="8380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 diagra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399720" y="83016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diagra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105520" cy="402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77040" y="1828800"/>
            <a:ext cx="3590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2743200"/>
            <a:ext cx="3124440" cy="1600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Features: Easy configu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MasterPortconnection" descr=""/>
          <p:cNvPicPr/>
          <p:nvPr/>
        </p:nvPicPr>
        <p:blipFill>
          <a:blip r:embed="rId1"/>
          <a:stretch/>
        </p:blipFill>
        <p:spPr>
          <a:xfrm>
            <a:off x="4724280" y="3724200"/>
            <a:ext cx="4267440" cy="26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724280" y="990720"/>
          <a:ext cx="4267440" cy="25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42674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1295280"/>
            <a:ext cx="35812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GUI bas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  <a:ea typeface="굴림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  <a:ea typeface="굴림"/>
              </a:rPr>
              <a:t>- hierarchical menu configu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Text bas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- Telnet, SS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- VT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  <a:ea typeface="굴림"/>
              </a:rPr>
              <a:t>serial conso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3014640"/>
            <a:ext cx="2819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Easy &amp; fast config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in 10 mins for basic configuration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Features: Easy port acces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Accessing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telnet/SSH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client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elnet/SSH Java applet embedded in VTS Web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Simultaneous access of multiple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- bilateral monitoring of each others activity on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- on-line messaging between managers on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9880" y="1965240"/>
            <a:ext cx="3124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Features: Easy &amp; direct cab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Cisco devices and Sun Netra server are connected using standard Ethernet straight cabl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5832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Features: Various conne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Various alternate connections: out-of-b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ST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external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C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Card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SL 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broadband internet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external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eless : 802.11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CMCIA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wireless LAN 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erial cons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built-in VTS system console 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</a:t>
            </a:r>
            <a:r>
              <a:rPr b="0" lang="ko-KR" sz="3600" spc="-1" strike="noStrike">
                <a:solidFill>
                  <a:srgbClr val="ffffff"/>
                </a:solidFill>
                <a:latin typeface="Verdana"/>
              </a:rPr>
              <a:t>Features: Secur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encry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SH v1,2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authent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 filtering (firewall fun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groups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privile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t, system admin, port admin,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access control per 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ed/restricted user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iff mode user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19720" y="1143000"/>
            <a:ext cx="4400280" cy="4546800"/>
            <a:chOff x="4419720" y="1143000"/>
            <a:chExt cx="4400280" cy="45468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776920" y="4681440"/>
              <a:ext cx="56052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vts3200" descr=""/>
            <p:cNvPicPr/>
            <p:nvPr/>
          </p:nvPicPr>
          <p:blipFill>
            <a:blip r:embed="rId2"/>
            <a:stretch/>
          </p:blipFill>
          <p:spPr>
            <a:xfrm>
              <a:off x="5106960" y="2060640"/>
              <a:ext cx="1773360" cy="753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58" name=""/>
            <p:cNvCxnSpPr/>
            <p:nvPr/>
          </p:nvCxnSpPr>
          <p:spPr>
            <a:xfrm>
              <a:off x="4495680" y="3042720"/>
              <a:ext cx="3493440" cy="25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pic>
          <p:nvPicPr>
            <p:cNvPr id="159" name="Comp059" descr=""/>
            <p:cNvPicPr/>
            <p:nvPr/>
          </p:nvPicPr>
          <p:blipFill>
            <a:blip r:embed="rId3"/>
            <a:stretch/>
          </p:blipFill>
          <p:spPr>
            <a:xfrm>
              <a:off x="6845400" y="3119400"/>
              <a:ext cx="457200" cy="865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0" name=""/>
            <p:cNvCxnSpPr/>
            <p:nvPr/>
          </p:nvCxnSpPr>
          <p:spPr>
            <a:xfrm>
              <a:off x="6643800" y="3059280"/>
              <a:ext cx="172080" cy="235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grpSp>
          <p:nvGrpSpPr>
            <p:cNvPr id="161" name=""/>
            <p:cNvGrpSpPr/>
            <p:nvPr/>
          </p:nvGrpSpPr>
          <p:grpSpPr>
            <a:xfrm>
              <a:off x="4954680" y="3881520"/>
              <a:ext cx="1311120" cy="671400"/>
              <a:chOff x="4954680" y="3881520"/>
              <a:chExt cx="1311120" cy="67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4954680" y="3881520"/>
                <a:ext cx="1311120" cy="671400"/>
                <a:chOff x="4954680" y="3881520"/>
                <a:chExt cx="1311120" cy="671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62200" y="3901680"/>
                  <a:ext cx="320760" cy="2242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24640" y="3881520"/>
                  <a:ext cx="262440" cy="1832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858280" y="4064400"/>
                  <a:ext cx="407520" cy="2854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00480" y="4186080"/>
                  <a:ext cx="466200" cy="3258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40920" y="4226760"/>
                  <a:ext cx="348840" cy="24372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84200" y="4247280"/>
                  <a:ext cx="261360" cy="1828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954680" y="4105080"/>
                  <a:ext cx="262080" cy="1828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071680" y="3942720"/>
                  <a:ext cx="408240" cy="2844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421600" y="4267800"/>
                  <a:ext cx="406800" cy="28512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15880" y="3962520"/>
                  <a:ext cx="320040" cy="2242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27680" y="3881520"/>
                  <a:ext cx="291960" cy="2034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5061600" y="3935520"/>
                <a:ext cx="1130040" cy="529920"/>
              </a:xfrm>
              <a:custGeom>
                <a:avLst/>
                <a:gdLst/>
                <a:ahLst/>
                <a:rect l="l" t="t" r="r" b="b"/>
                <a:pathLst>
                  <a:path w="1447" h="1011">
                    <a:moveTo>
                      <a:pt x="447" y="103"/>
                    </a:moveTo>
                    <a:lnTo>
                      <a:pt x="507" y="29"/>
                    </a:lnTo>
                    <a:lnTo>
                      <a:pt x="777" y="34"/>
                    </a:lnTo>
                    <a:lnTo>
                      <a:pt x="968" y="0"/>
                    </a:lnTo>
                    <a:lnTo>
                      <a:pt x="1210" y="122"/>
                    </a:lnTo>
                    <a:lnTo>
                      <a:pt x="1331" y="88"/>
                    </a:lnTo>
                    <a:lnTo>
                      <a:pt x="1396" y="103"/>
                    </a:lnTo>
                    <a:lnTo>
                      <a:pt x="1410" y="402"/>
                    </a:lnTo>
                    <a:lnTo>
                      <a:pt x="1447" y="450"/>
                    </a:lnTo>
                    <a:lnTo>
                      <a:pt x="1336" y="683"/>
                    </a:lnTo>
                    <a:lnTo>
                      <a:pt x="1215" y="523"/>
                    </a:lnTo>
                    <a:lnTo>
                      <a:pt x="1182" y="606"/>
                    </a:lnTo>
                    <a:lnTo>
                      <a:pt x="1010" y="924"/>
                    </a:lnTo>
                    <a:lnTo>
                      <a:pt x="437" y="1011"/>
                    </a:lnTo>
                    <a:lnTo>
                      <a:pt x="140" y="949"/>
                    </a:lnTo>
                    <a:lnTo>
                      <a:pt x="46" y="751"/>
                    </a:lnTo>
                    <a:lnTo>
                      <a:pt x="46" y="547"/>
                    </a:lnTo>
                    <a:lnTo>
                      <a:pt x="0" y="378"/>
                    </a:lnTo>
                    <a:lnTo>
                      <a:pt x="447" y="10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08400" y="4038480"/>
              <a:ext cx="11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54800" y="3294000"/>
              <a:ext cx="146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uthentication serv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69080" y="26622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thernet LA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84840" y="2158920"/>
              <a:ext cx="6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76920" y="5230800"/>
              <a:ext cx="138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anagement sta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80" name=""/>
            <p:cNvCxnSpPr/>
            <p:nvPr/>
          </p:nvCxnSpPr>
          <p:spPr>
            <a:xfrm>
              <a:off x="6051240" y="2662200"/>
              <a:ext cx="275400" cy="370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1" name=""/>
            <p:cNvCxnSpPr/>
            <p:nvPr/>
          </p:nvCxnSpPr>
          <p:spPr>
            <a:xfrm>
              <a:off x="4994280" y="3044880"/>
              <a:ext cx="621000" cy="859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7392960" y="3844800"/>
              <a:ext cx="1233360" cy="1110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DIU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ACACS+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LDAP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Kerberos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622760"/>
              <a:ext cx="1266840" cy="5544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TTP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SH v1,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6440" y="1143000"/>
              <a:ext cx="2081520" cy="8323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D &amp; passwor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P filter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User access level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4038480"/>
              <a:ext cx="1001520" cy="554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elne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>
              <a:off x="5705640" y="4546440"/>
              <a:ext cx="227520" cy="326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Features: Various  port mo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Verdana"/>
              </a:rPr>
              <a:t>four port modes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1371600"/>
            <a:ext cx="2590560" cy="4800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574056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137160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nsole server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5054760" y="18288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752480"/>
            <a:ext cx="914400" cy="418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695160" cy="762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81080" y="198108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23524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erminal server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054760" y="27432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666880"/>
            <a:ext cx="2210040" cy="418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mmy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289548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285920" y="2514600"/>
            <a:ext cx="69516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320" y="1717560"/>
            <a:ext cx="1523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m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631960"/>
            <a:ext cx="1523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22596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Dial-in modem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490212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Dial-in terminal server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8153280" y="3352680"/>
            <a:ext cx="69552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67360" y="36576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054760" y="43434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25800" y="3809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25800" y="4495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83876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83360" y="38098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595680"/>
            <a:ext cx="1067040" cy="3877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717960" y="38098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5054760" y="5334120"/>
            <a:ext cx="228600" cy="3045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272200"/>
            <a:ext cx="2209680" cy="69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m dummy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548640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85920" y="51055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920" y="5222880"/>
            <a:ext cx="1523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281480"/>
            <a:ext cx="914400" cy="418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283360" y="45086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able of cont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95440"/>
            <a:ext cx="655308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ole Ser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Background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Effects of network-dow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Factors and solutions of network-dow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ecessity of out-of-band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Out-of-band management solu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erial Console Por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onsole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Featur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Benef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Application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Re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Features: Various message sto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16765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ssage storage loc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257800" y="1943280"/>
            <a:ext cx="3809880" cy="4343400"/>
            <a:chOff x="5257800" y="1943280"/>
            <a:chExt cx="3809880" cy="4343400"/>
          </a:xfrm>
        </p:grpSpPr>
        <p:sp>
          <p:nvSpPr>
            <p:cNvPr id="224" name=""/>
            <p:cNvSpPr/>
            <p:nvPr/>
          </p:nvSpPr>
          <p:spPr>
            <a:xfrm>
              <a:off x="5257800" y="1943280"/>
              <a:ext cx="3809880" cy="4343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5" name="vts3200" descr=""/>
            <p:cNvPicPr/>
            <p:nvPr/>
          </p:nvPicPr>
          <p:blipFill>
            <a:blip r:embed="rId1"/>
            <a:stretch/>
          </p:blipFill>
          <p:spPr>
            <a:xfrm>
              <a:off x="6248520" y="4292640"/>
              <a:ext cx="1904760" cy="793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6" name=""/>
            <p:cNvCxnSpPr/>
            <p:nvPr/>
          </p:nvCxnSpPr>
          <p:spPr>
            <a:xfrm flipV="1">
              <a:off x="5498640" y="2208960"/>
              <a:ext cx="2019960" cy="18788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27" name=""/>
            <p:cNvCxnSpPr/>
            <p:nvPr/>
          </p:nvCxnSpPr>
          <p:spPr>
            <a:xfrm>
              <a:off x="5714640" y="3886200"/>
              <a:ext cx="927720" cy="3945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pic>
          <p:nvPicPr>
            <p:cNvPr id="228" name="Comp059" descr=""/>
            <p:cNvPicPr/>
            <p:nvPr/>
          </p:nvPicPr>
          <p:blipFill>
            <a:blip r:embed="rId2"/>
            <a:stretch/>
          </p:blipFill>
          <p:spPr>
            <a:xfrm>
              <a:off x="8217000" y="2495520"/>
              <a:ext cx="533160" cy="990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9" name=""/>
            <p:cNvCxnSpPr/>
            <p:nvPr/>
          </p:nvCxnSpPr>
          <p:spPr>
            <a:xfrm>
              <a:off x="7365960" y="2362320"/>
              <a:ext cx="843840" cy="305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562720" y="2819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hernet LA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7240" y="43070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VT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8880" y="2809800"/>
              <a:ext cx="175284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YSLOG serv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3" name="pc_card_pict" descr=""/>
            <p:cNvPicPr/>
            <p:nvPr/>
          </p:nvPicPr>
          <p:blipFill>
            <a:blip r:embed="rId3"/>
            <a:stretch/>
          </p:blipFill>
          <p:spPr>
            <a:xfrm>
              <a:off x="7416720" y="4840200"/>
              <a:ext cx="399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238880" y="5257800"/>
              <a:ext cx="1575000" cy="52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orage PCMCIA car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40560" y="4611600"/>
              <a:ext cx="1066680" cy="7333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ternal Flash ROM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6" name="Comp059" descr=""/>
            <p:cNvPicPr/>
            <p:nvPr/>
          </p:nvPicPr>
          <p:blipFill>
            <a:blip r:embed="rId4"/>
            <a:stretch/>
          </p:blipFill>
          <p:spPr>
            <a:xfrm>
              <a:off x="7327800" y="3333600"/>
              <a:ext cx="533520" cy="990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7" name=""/>
            <p:cNvCxnSpPr/>
            <p:nvPr/>
          </p:nvCxnSpPr>
          <p:spPr>
            <a:xfrm>
              <a:off x="6476760" y="3200040"/>
              <a:ext cx="843480" cy="3056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sp>
          <p:nvSpPr>
            <p:cNvPr id="238" name=""/>
            <p:cNvSpPr/>
            <p:nvPr/>
          </p:nvSpPr>
          <p:spPr>
            <a:xfrm>
              <a:off x="6807240" y="3639960"/>
              <a:ext cx="134604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NFS serv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9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message storage l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nternal flash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MCIA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torage c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ternal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slog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NF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usage of stored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operational trends of a de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evice forens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lar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keyword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larm (email, SNMP tra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mmediate action to an ev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eriodic job schedu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TS Features: System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/delete/adjust privile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control on port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system messages and ala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work, ports, user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mware upg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net, serial cons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Features: Cluster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One Master VTS accommodates  16 slave VTSes. : save precious public 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No speed degra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905120"/>
            <a:ext cx="8729280" cy="4497480"/>
            <a:chOff x="228600" y="1905120"/>
            <a:chExt cx="8729280" cy="4497480"/>
          </a:xfrm>
        </p:grpSpPr>
        <p:pic>
          <p:nvPicPr>
            <p:cNvPr id="245" name="vts3200" descr=""/>
            <p:cNvPicPr/>
            <p:nvPr/>
          </p:nvPicPr>
          <p:blipFill>
            <a:blip r:embed="rId1"/>
            <a:stretch/>
          </p:blipFill>
          <p:spPr>
            <a:xfrm>
              <a:off x="2514600" y="5353200"/>
              <a:ext cx="160020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vts3200" descr=""/>
            <p:cNvPicPr/>
            <p:nvPr/>
          </p:nvPicPr>
          <p:blipFill>
            <a:blip r:embed="rId2"/>
            <a:stretch/>
          </p:blipFill>
          <p:spPr>
            <a:xfrm>
              <a:off x="3276720" y="3581280"/>
              <a:ext cx="342900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vts3200" descr=""/>
            <p:cNvPicPr/>
            <p:nvPr/>
          </p:nvPicPr>
          <p:blipFill>
            <a:blip r:embed="rId3"/>
            <a:stretch/>
          </p:blipFill>
          <p:spPr>
            <a:xfrm>
              <a:off x="228600" y="5334120"/>
              <a:ext cx="1600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33520" y="4800600"/>
              <a:ext cx="457200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4343400"/>
              <a:ext cx="0" cy="4572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257440" y="3429000"/>
              <a:ext cx="609480" cy="5335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52680" y="4800600"/>
              <a:ext cx="0" cy="4572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800600"/>
              <a:ext cx="0" cy="4572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57600" y="35812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58816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lave 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5881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lave 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87440" y="441972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6912000" y="1905120"/>
              <a:ext cx="83340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5105520" y="2743200"/>
              <a:ext cx="1974240" cy="990360"/>
              <a:chOff x="5105520" y="2743200"/>
              <a:chExt cx="1974240" cy="99036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5105520" y="2743200"/>
                <a:ext cx="1974240" cy="990360"/>
                <a:chOff x="5105520" y="2743200"/>
                <a:chExt cx="1974240" cy="9903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5105520" y="2743200"/>
                  <a:ext cx="1974240" cy="990360"/>
                  <a:chOff x="5105520" y="2743200"/>
                  <a:chExt cx="1974240" cy="9903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719320" y="2773080"/>
                    <a:ext cx="483120" cy="3308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14240" y="2743200"/>
                    <a:ext cx="394920" cy="2707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465960" y="3012840"/>
                    <a:ext cx="613800" cy="4212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325120" y="3192120"/>
                    <a:ext cx="702000" cy="480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289560" y="3252600"/>
                    <a:ext cx="525600" cy="3596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49800" y="3282840"/>
                    <a:ext cx="393840" cy="2696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05520" y="3073320"/>
                    <a:ext cx="394920" cy="2696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281560" y="2833560"/>
                    <a:ext cx="614880" cy="4197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808600" y="3313080"/>
                    <a:ext cx="612360" cy="42048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553080" y="2863080"/>
                    <a:ext cx="482040" cy="3308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420240" y="2743200"/>
                    <a:ext cx="439560" cy="29988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5266440" y="2822760"/>
                  <a:ext cx="1701720" cy="781560"/>
                </a:xfrm>
                <a:custGeom>
                  <a:avLst/>
                  <a:gdLst/>
                  <a:ahLst/>
                  <a:rect l="l" t="t" r="r" b="b"/>
                  <a:pathLst>
                    <a:path w="1447" h="1011">
                      <a:moveTo>
                        <a:pt x="447" y="103"/>
                      </a:moveTo>
                      <a:lnTo>
                        <a:pt x="507" y="29"/>
                      </a:lnTo>
                      <a:lnTo>
                        <a:pt x="777" y="34"/>
                      </a:lnTo>
                      <a:lnTo>
                        <a:pt x="968" y="0"/>
                      </a:lnTo>
                      <a:lnTo>
                        <a:pt x="1210" y="122"/>
                      </a:lnTo>
                      <a:lnTo>
                        <a:pt x="1331" y="88"/>
                      </a:lnTo>
                      <a:lnTo>
                        <a:pt x="1396" y="103"/>
                      </a:lnTo>
                      <a:lnTo>
                        <a:pt x="1410" y="402"/>
                      </a:lnTo>
                      <a:lnTo>
                        <a:pt x="1447" y="450"/>
                      </a:lnTo>
                      <a:lnTo>
                        <a:pt x="1336" y="683"/>
                      </a:lnTo>
                      <a:lnTo>
                        <a:pt x="1215" y="523"/>
                      </a:lnTo>
                      <a:lnTo>
                        <a:pt x="1182" y="606"/>
                      </a:lnTo>
                      <a:lnTo>
                        <a:pt x="1010" y="924"/>
                      </a:lnTo>
                      <a:lnTo>
                        <a:pt x="437" y="1011"/>
                      </a:lnTo>
                      <a:lnTo>
                        <a:pt x="140" y="949"/>
                      </a:lnTo>
                      <a:lnTo>
                        <a:pt x="46" y="751"/>
                      </a:lnTo>
                      <a:lnTo>
                        <a:pt x="46" y="547"/>
                      </a:lnTo>
                      <a:lnTo>
                        <a:pt x="0" y="378"/>
                      </a:lnTo>
                      <a:lnTo>
                        <a:pt x="447" y="10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573520" y="3045600"/>
                <a:ext cx="1143720" cy="368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휴먼엑스포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flipH="1">
              <a:off x="6683400" y="2666880"/>
              <a:ext cx="380880" cy="15264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59880" y="22096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mote P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0200" y="373392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192.168.1.10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211.112.67.34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" y="612612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192.168.1.10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612612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192.168.1.103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" y="2398680"/>
              <a:ext cx="4343400" cy="100656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User’s access to the por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: 211.112.67.34 (Public IP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 ports: 211.112.67.34: 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1 ports: 211.112.67.34:8000~8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2 ports: 211.112.67.34:9000~9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67280" y="4724280"/>
              <a:ext cx="2819520" cy="15541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ort forwarding configura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: TCP port 8000~8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1: TCP port 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: TCP port 9000~9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1: TCP port 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886200"/>
              <a:ext cx="2590920" cy="733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aster</a:t>
              </a: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의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CP port forward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8000~8031, 9000~903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880" y="4952880"/>
              <a:ext cx="1371600" cy="4590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CP por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4952880"/>
              <a:ext cx="1371600" cy="4590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CP por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Verdana"/>
              </a:rPr>
              <a:t>VTS Features: Various PCCard sup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09680" y="3786120"/>
            <a:ext cx="6629400" cy="846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209680" y="2278080"/>
            <a:ext cx="6629400" cy="1440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8600" y="1203480"/>
            <a:ext cx="160020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467080"/>
            <a:ext cx="160020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TA Flas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18960" y="3838680"/>
            <a:ext cx="147204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reless LA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4759200"/>
            <a:ext cx="160020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2209680" y="1006560"/>
            <a:ext cx="6629400" cy="1263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209680" y="4699080"/>
            <a:ext cx="66294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57600" y="4419720"/>
            <a:ext cx="3733920" cy="1066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Features: Flexible platfor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Open code base (Linux 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2-bit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User codes and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4768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d your value to VTS 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Benefits: Maximize uptim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upti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470560"/>
            <a:ext cx="82296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management operations include remote, unmanned or isolated site you could expect more ROI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1523880"/>
          <a:ext cx="2133360" cy="367668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o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791320" y="1523880"/>
          <a:ext cx="2133360" cy="14256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o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3505320" y="1523880"/>
            <a:ext cx="2286000" cy="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505320" y="5181120"/>
            <a:ext cx="4419360" cy="2556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7315200" y="2971800"/>
            <a:ext cx="0" cy="2209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33526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0% downtime red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41911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RO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538560" y="3129480"/>
            <a:ext cx="34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ntional manag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Benefits: Return On Inves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investment to manage 64 devices via VTS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$5,000 ($78 per 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363996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annual 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183,000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3276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cost saving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146,4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0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8288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twork down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57200" y="2346480"/>
          <a:ext cx="2819520" cy="1238040"/>
        </p:xfrm>
        <a:graphic>
          <a:graphicData uri="http://schemas.openxmlformats.org/drawingml/2006/table">
            <a:tbl>
              <a:tblPr/>
              <a:tblGrid>
                <a:gridCol w="2362320"/>
                <a:gridCol w="457200"/>
              </a:tblGrid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ly down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downtime duration(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downtime (hr/y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5181480" y="18288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aved network down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257800" y="2438280"/>
          <a:ext cx="3429000" cy="762120"/>
        </p:xfrm>
        <a:graphic>
          <a:graphicData uri="http://schemas.openxmlformats.org/drawingml/2006/table">
            <a:tbl>
              <a:tblPr/>
              <a:tblGrid>
                <a:gridCol w="2873520"/>
                <a:gridCol w="55548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ch downtime reduction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time reduction rate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886200" y="266688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312408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invest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5,000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19520" y="4757760"/>
          <a:ext cx="3352680" cy="1185840"/>
        </p:xfrm>
        <a:graphic>
          <a:graphicData uri="http://schemas.openxmlformats.org/drawingml/2006/table">
            <a:tbl>
              <a:tblPr/>
              <a:tblGrid>
                <a:gridCol w="1703520"/>
                <a:gridCol w="164916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ly savings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,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7238880" y="5791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refer to “effects of network downtime” for detail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Applications: ID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device: server, router, switch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via VTS: convenient management toolbox for different types of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667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Applications: Tele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DSU_CSU01" descr=""/>
          <p:cNvPicPr/>
          <p:nvPr/>
        </p:nvPicPr>
        <p:blipFill>
          <a:blip r:embed="rId1"/>
          <a:stretch/>
        </p:blipFill>
        <p:spPr>
          <a:xfrm>
            <a:off x="3048120" y="3627360"/>
            <a:ext cx="3668760" cy="2239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get device: CSU/DS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VTS: on site management using a PC and serial multi-port c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VTS: centralized management of devices on different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TS Applications: Console device manufactur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Unix server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target device: Unix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VTS is utilized in product development and testing: Different people from distributed locations access Unix serv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2552760" y="4869000"/>
            <a:ext cx="4698000" cy="21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32" name="fisc_cdm" descr=""/>
          <p:cNvPicPr/>
          <p:nvPr/>
        </p:nvPicPr>
        <p:blipFill>
          <a:blip r:embed="rId1"/>
          <a:stretch/>
        </p:blipFill>
        <p:spPr>
          <a:xfrm>
            <a:off x="3057480" y="4986360"/>
            <a:ext cx="366840" cy="693720"/>
          </a:xfrm>
          <a:prstGeom prst="rect">
            <a:avLst/>
          </a:prstGeom>
          <a:ln w="0">
            <a:noFill/>
          </a:ln>
        </p:spPr>
      </p:pic>
      <p:cxnSp>
        <p:nvCxnSpPr>
          <p:cNvPr id="333" name=""/>
          <p:cNvCxnSpPr/>
          <p:nvPr/>
        </p:nvCxnSpPr>
        <p:spPr>
          <a:xfrm>
            <a:off x="2698560" y="4868640"/>
            <a:ext cx="27828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34" name=""/>
          <p:cNvCxnSpPr>
            <a:endCxn id="332" idx="1"/>
          </p:cNvCxnSpPr>
          <p:nvPr/>
        </p:nvCxnSpPr>
        <p:spPr>
          <a:xfrm flipV="1">
            <a:off x="2976120" y="5333400"/>
            <a:ext cx="81360" cy="540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35" name=""/>
          <p:cNvCxnSpPr/>
          <p:nvPr/>
        </p:nvCxnSpPr>
        <p:spPr>
          <a:xfrm>
            <a:off x="3352320" y="5638320"/>
            <a:ext cx="150120" cy="25020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336" name=""/>
          <p:cNvCxnSpPr/>
          <p:nvPr/>
        </p:nvCxnSpPr>
        <p:spPr>
          <a:xfrm>
            <a:off x="3503160" y="5888160"/>
            <a:ext cx="151560" cy="21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821120" y="5103720"/>
            <a:ext cx="339840" cy="470160"/>
          </a:xfrm>
          <a:prstGeom prst="rect">
            <a:avLst/>
          </a:prstGeom>
          <a:ln w="0">
            <a:noFill/>
          </a:ln>
        </p:spPr>
      </p:pic>
      <p:pic>
        <p:nvPicPr>
          <p:cNvPr id="338" name="vts3200" descr=""/>
          <p:cNvPicPr/>
          <p:nvPr/>
        </p:nvPicPr>
        <p:blipFill>
          <a:blip r:embed="rId3"/>
          <a:stretch/>
        </p:blipFill>
        <p:spPr>
          <a:xfrm>
            <a:off x="3643200" y="5607000"/>
            <a:ext cx="928800" cy="488880"/>
          </a:xfrm>
          <a:prstGeom prst="rect">
            <a:avLst/>
          </a:prstGeom>
          <a:ln w="0">
            <a:noFill/>
          </a:ln>
        </p:spPr>
      </p:pic>
      <p:cxnSp>
        <p:nvCxnSpPr>
          <p:cNvPr id="339" name=""/>
          <p:cNvCxnSpPr/>
          <p:nvPr/>
        </p:nvCxnSpPr>
        <p:spPr>
          <a:xfrm>
            <a:off x="4267080" y="4868640"/>
            <a:ext cx="27720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40" name=""/>
          <p:cNvCxnSpPr/>
          <p:nvPr/>
        </p:nvCxnSpPr>
        <p:spPr>
          <a:xfrm>
            <a:off x="4546440" y="5338440"/>
            <a:ext cx="27828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41" name=""/>
          <p:cNvCxnSpPr/>
          <p:nvPr/>
        </p:nvCxnSpPr>
        <p:spPr>
          <a:xfrm>
            <a:off x="5562360" y="4727160"/>
            <a:ext cx="92520" cy="1501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42" name=""/>
          <p:cNvCxnSpPr/>
          <p:nvPr/>
        </p:nvCxnSpPr>
        <p:spPr>
          <a:xfrm>
            <a:off x="3539880" y="4869000"/>
            <a:ext cx="423000" cy="70524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4014720" y="54990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54100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t in developmen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083200" y="5103720"/>
            <a:ext cx="139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 management s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7099200" y="4816440"/>
            <a:ext cx="120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7800" y="4464000"/>
            <a:ext cx="533520" cy="268200"/>
            <a:chOff x="5257800" y="4464000"/>
            <a:chExt cx="533520" cy="268200"/>
          </a:xfrm>
        </p:grpSpPr>
        <p:grpSp>
          <p:nvGrpSpPr>
            <p:cNvPr id="348" name=""/>
            <p:cNvGrpSpPr/>
            <p:nvPr/>
          </p:nvGrpSpPr>
          <p:grpSpPr>
            <a:xfrm>
              <a:off x="5257800" y="4464000"/>
              <a:ext cx="533520" cy="268200"/>
              <a:chOff x="5257800" y="4464000"/>
              <a:chExt cx="533520" cy="268200"/>
            </a:xfrm>
          </p:grpSpPr>
          <p:sp>
            <p:nvSpPr>
              <p:cNvPr id="349" name=""/>
              <p:cNvSpPr/>
              <p:nvPr/>
            </p:nvSpPr>
            <p:spPr>
              <a:xfrm>
                <a:off x="5423760" y="4471920"/>
                <a:ext cx="130320" cy="89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30320" y="4464000"/>
                <a:ext cx="106560" cy="730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5360" y="4537080"/>
                <a:ext cx="165960" cy="1141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17200" y="4585680"/>
                <a:ext cx="189720" cy="1303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77840" y="4601880"/>
                <a:ext cx="141840" cy="972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69680" y="4610160"/>
                <a:ext cx="106200" cy="730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257800" y="4553280"/>
                <a:ext cx="106560" cy="730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5320" y="4488480"/>
                <a:ext cx="165960" cy="1137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7880" y="4618440"/>
                <a:ext cx="165600" cy="1137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49120" y="4496400"/>
                <a:ext cx="130320" cy="89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13120" y="4464000"/>
                <a:ext cx="118800" cy="810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301000" y="4485600"/>
              <a:ext cx="459720" cy="211680"/>
            </a:xfrm>
            <a:custGeom>
              <a:avLst/>
              <a:gdLst/>
              <a:ahLst/>
              <a:rect l="l" t="t" r="r" b="b"/>
              <a:pathLst>
                <a:path w="1447" h="1011">
                  <a:moveTo>
                    <a:pt x="447" y="103"/>
                  </a:moveTo>
                  <a:lnTo>
                    <a:pt x="507" y="29"/>
                  </a:lnTo>
                  <a:lnTo>
                    <a:pt x="777" y="34"/>
                  </a:lnTo>
                  <a:lnTo>
                    <a:pt x="968" y="0"/>
                  </a:lnTo>
                  <a:lnTo>
                    <a:pt x="1210" y="122"/>
                  </a:lnTo>
                  <a:lnTo>
                    <a:pt x="1331" y="88"/>
                  </a:lnTo>
                  <a:lnTo>
                    <a:pt x="1396" y="103"/>
                  </a:lnTo>
                  <a:lnTo>
                    <a:pt x="1410" y="402"/>
                  </a:lnTo>
                  <a:lnTo>
                    <a:pt x="1447" y="450"/>
                  </a:lnTo>
                  <a:lnTo>
                    <a:pt x="1336" y="683"/>
                  </a:lnTo>
                  <a:lnTo>
                    <a:pt x="1215" y="523"/>
                  </a:lnTo>
                  <a:lnTo>
                    <a:pt x="1182" y="606"/>
                  </a:lnTo>
                  <a:lnTo>
                    <a:pt x="1010" y="924"/>
                  </a:lnTo>
                  <a:lnTo>
                    <a:pt x="437" y="1011"/>
                  </a:lnTo>
                  <a:lnTo>
                    <a:pt x="140" y="949"/>
                  </a:lnTo>
                  <a:lnTo>
                    <a:pt x="46" y="751"/>
                  </a:lnTo>
                  <a:lnTo>
                    <a:pt x="46" y="547"/>
                  </a:lnTo>
                  <a:lnTo>
                    <a:pt x="0" y="378"/>
                  </a:lnTo>
                  <a:lnTo>
                    <a:pt x="447" y="10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181480" y="4464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2" name=""/>
          <p:cNvCxnSpPr/>
          <p:nvPr/>
        </p:nvCxnSpPr>
        <p:spPr>
          <a:xfrm>
            <a:off x="5410080" y="4346640"/>
            <a:ext cx="92880" cy="149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63" name=""/>
          <p:cNvCxnSpPr/>
          <p:nvPr/>
        </p:nvCxnSpPr>
        <p:spPr>
          <a:xfrm>
            <a:off x="1828440" y="4343040"/>
            <a:ext cx="557460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154240" y="3492360"/>
            <a:ext cx="339840" cy="470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62120" y="3413160"/>
            <a:ext cx="1523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fice 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velopment Te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6" name=""/>
          <p:cNvCxnSpPr/>
          <p:nvPr/>
        </p:nvCxnSpPr>
        <p:spPr>
          <a:xfrm>
            <a:off x="2314440" y="3885840"/>
            <a:ext cx="27720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3220920" y="3479760"/>
            <a:ext cx="339840" cy="469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581280" y="3413160"/>
            <a:ext cx="1600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fice 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9" name=""/>
          <p:cNvCxnSpPr/>
          <p:nvPr/>
        </p:nvCxnSpPr>
        <p:spPr>
          <a:xfrm>
            <a:off x="3381120" y="3873240"/>
            <a:ext cx="27684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6192720" y="3479760"/>
            <a:ext cx="339840" cy="469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454800" y="3479760"/>
            <a:ext cx="2079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fice 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verseas partn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2" name=""/>
          <p:cNvCxnSpPr/>
          <p:nvPr/>
        </p:nvCxnSpPr>
        <p:spPr>
          <a:xfrm>
            <a:off x="6352920" y="3873240"/>
            <a:ext cx="27684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ackgroun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03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rrent environ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ustering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/ downsiz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/ Serv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r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mall decentralized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ily-growing Internet infrastruct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lex syste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ous passages to Internet such as wired, wireless, mobile and fi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ous equipments in network infra such as UPS, Environmental controller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-going tre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lability – Adding additional nod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 Availability – Maximizing network up-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exibility – Integrating heterogeneous equipments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er Cos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creasing number of nodes to be manag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Numerous types of the equipmen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Frequent network-down proble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914400"/>
            <a:ext cx="563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day’s network environ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vts3200" descr=""/>
          <p:cNvPicPr/>
          <p:nvPr/>
        </p:nvPicPr>
        <p:blipFill>
          <a:blip r:embed="rId1"/>
          <a:stretch/>
        </p:blipFill>
        <p:spPr>
          <a:xfrm>
            <a:off x="3757680" y="5683320"/>
            <a:ext cx="928800" cy="4888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Application: IT compan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75" name=""/>
          <p:cNvCxnSpPr/>
          <p:nvPr/>
        </p:nvCxnSpPr>
        <p:spPr>
          <a:xfrm>
            <a:off x="1752120" y="4944600"/>
            <a:ext cx="4698360" cy="2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76" name="fisc_cdm" descr=""/>
          <p:cNvPicPr/>
          <p:nvPr/>
        </p:nvPicPr>
        <p:blipFill>
          <a:blip r:embed="rId2"/>
          <a:stretch/>
        </p:blipFill>
        <p:spPr>
          <a:xfrm>
            <a:off x="2257560" y="5062680"/>
            <a:ext cx="366480" cy="693720"/>
          </a:xfrm>
          <a:prstGeom prst="rect">
            <a:avLst/>
          </a:prstGeom>
          <a:ln w="0">
            <a:noFill/>
          </a:ln>
        </p:spPr>
      </p:pic>
      <p:cxnSp>
        <p:nvCxnSpPr>
          <p:cNvPr id="377" name=""/>
          <p:cNvCxnSpPr/>
          <p:nvPr/>
        </p:nvCxnSpPr>
        <p:spPr>
          <a:xfrm>
            <a:off x="1898640" y="4944960"/>
            <a:ext cx="278280" cy="470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78" name=""/>
          <p:cNvCxnSpPr>
            <a:endCxn id="376" idx="1"/>
          </p:cNvCxnSpPr>
          <p:nvPr/>
        </p:nvCxnSpPr>
        <p:spPr>
          <a:xfrm flipV="1">
            <a:off x="2176200" y="5409720"/>
            <a:ext cx="81360" cy="5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2580840" y="5740200"/>
            <a:ext cx="213480" cy="3639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380" name=""/>
          <p:cNvCxnSpPr/>
          <p:nvPr/>
        </p:nvCxnSpPr>
        <p:spPr>
          <a:xfrm flipV="1">
            <a:off x="2781360" y="6082560"/>
            <a:ext cx="1294560" cy="1188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697360" y="5180040"/>
            <a:ext cx="339840" cy="469800"/>
          </a:xfrm>
          <a:prstGeom prst="rect">
            <a:avLst/>
          </a:prstGeom>
          <a:ln w="0">
            <a:noFill/>
          </a:ln>
        </p:spPr>
      </p:pic>
      <p:cxnSp>
        <p:nvCxnSpPr>
          <p:cNvPr id="382" name=""/>
          <p:cNvCxnSpPr/>
          <p:nvPr/>
        </p:nvCxnSpPr>
        <p:spPr>
          <a:xfrm>
            <a:off x="5143320" y="4944960"/>
            <a:ext cx="276840" cy="470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83" name=""/>
          <p:cNvCxnSpPr/>
          <p:nvPr/>
        </p:nvCxnSpPr>
        <p:spPr>
          <a:xfrm>
            <a:off x="5422680" y="5414760"/>
            <a:ext cx="27828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84" name=""/>
          <p:cNvCxnSpPr/>
          <p:nvPr/>
        </p:nvCxnSpPr>
        <p:spPr>
          <a:xfrm>
            <a:off x="4762440" y="4803840"/>
            <a:ext cx="92880" cy="149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>
            <a:off x="3654000" y="4944960"/>
            <a:ext cx="423000" cy="70524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4129200" y="55753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1866960" y="5532480"/>
            <a:ext cx="79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x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5959440" y="5180040"/>
            <a:ext cx="1660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 Admi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6299280" y="48927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772080" y="4003560"/>
            <a:ext cx="1600200" cy="804600"/>
            <a:chOff x="3772080" y="4003560"/>
            <a:chExt cx="1600200" cy="804600"/>
          </a:xfrm>
        </p:grpSpPr>
        <p:grpSp>
          <p:nvGrpSpPr>
            <p:cNvPr id="391" name=""/>
            <p:cNvGrpSpPr/>
            <p:nvPr/>
          </p:nvGrpSpPr>
          <p:grpSpPr>
            <a:xfrm>
              <a:off x="3772080" y="4003560"/>
              <a:ext cx="1600200" cy="804600"/>
              <a:chOff x="3772080" y="4003560"/>
              <a:chExt cx="1600200" cy="804600"/>
            </a:xfrm>
          </p:grpSpPr>
          <p:sp>
            <p:nvSpPr>
              <p:cNvPr id="392" name=""/>
              <p:cNvSpPr/>
              <p:nvPr/>
            </p:nvSpPr>
            <p:spPr>
              <a:xfrm>
                <a:off x="4269600" y="4028040"/>
                <a:ext cx="391320" cy="268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89640" y="4003560"/>
                <a:ext cx="320040" cy="219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74760" y="4222800"/>
                <a:ext cx="497520" cy="3423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49920" y="4368600"/>
                <a:ext cx="568800" cy="390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31480" y="4417560"/>
                <a:ext cx="425880" cy="2923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08080" y="4442040"/>
                <a:ext cx="31896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2080" y="4271760"/>
                <a:ext cx="32004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14640" y="4077000"/>
                <a:ext cx="498240" cy="3412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41960" y="4466520"/>
                <a:ext cx="496440" cy="341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944960" y="4100760"/>
                <a:ext cx="390600" cy="268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37320" y="4003560"/>
                <a:ext cx="356400" cy="2437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3902400" y="4068360"/>
              <a:ext cx="1379160" cy="635400"/>
            </a:xfrm>
            <a:custGeom>
              <a:avLst/>
              <a:gdLst/>
              <a:ahLst/>
              <a:rect l="l" t="t" r="r" b="b"/>
              <a:pathLst>
                <a:path w="1447" h="1011">
                  <a:moveTo>
                    <a:pt x="447" y="103"/>
                  </a:moveTo>
                  <a:lnTo>
                    <a:pt x="507" y="29"/>
                  </a:lnTo>
                  <a:lnTo>
                    <a:pt x="777" y="34"/>
                  </a:lnTo>
                  <a:lnTo>
                    <a:pt x="968" y="0"/>
                  </a:lnTo>
                  <a:lnTo>
                    <a:pt x="1210" y="122"/>
                  </a:lnTo>
                  <a:lnTo>
                    <a:pt x="1331" y="88"/>
                  </a:lnTo>
                  <a:lnTo>
                    <a:pt x="1396" y="103"/>
                  </a:lnTo>
                  <a:lnTo>
                    <a:pt x="1410" y="402"/>
                  </a:lnTo>
                  <a:lnTo>
                    <a:pt x="1447" y="450"/>
                  </a:lnTo>
                  <a:lnTo>
                    <a:pt x="1336" y="683"/>
                  </a:lnTo>
                  <a:lnTo>
                    <a:pt x="1215" y="523"/>
                  </a:lnTo>
                  <a:lnTo>
                    <a:pt x="1182" y="606"/>
                  </a:lnTo>
                  <a:lnTo>
                    <a:pt x="1010" y="924"/>
                  </a:lnTo>
                  <a:lnTo>
                    <a:pt x="437" y="1011"/>
                  </a:lnTo>
                  <a:lnTo>
                    <a:pt x="140" y="949"/>
                  </a:lnTo>
                  <a:lnTo>
                    <a:pt x="46" y="751"/>
                  </a:lnTo>
                  <a:lnTo>
                    <a:pt x="46" y="547"/>
                  </a:lnTo>
                  <a:lnTo>
                    <a:pt x="0" y="378"/>
                  </a:lnTo>
                  <a:lnTo>
                    <a:pt x="447" y="10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52960" y="4191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5" name="fisc_cdm" descr=""/>
          <p:cNvPicPr/>
          <p:nvPr/>
        </p:nvPicPr>
        <p:blipFill>
          <a:blip r:embed="rId4"/>
          <a:stretch/>
        </p:blipFill>
        <p:spPr>
          <a:xfrm>
            <a:off x="3174840" y="5070600"/>
            <a:ext cx="366840" cy="693720"/>
          </a:xfrm>
          <a:prstGeom prst="rect">
            <a:avLst/>
          </a:prstGeom>
          <a:ln w="0">
            <a:noFill/>
          </a:ln>
        </p:spPr>
      </p:pic>
      <p:cxnSp>
        <p:nvCxnSpPr>
          <p:cNvPr id="406" name=""/>
          <p:cNvCxnSpPr/>
          <p:nvPr/>
        </p:nvCxnSpPr>
        <p:spPr>
          <a:xfrm>
            <a:off x="2816280" y="4952880"/>
            <a:ext cx="278280" cy="470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07" name=""/>
          <p:cNvCxnSpPr>
            <a:endCxn id="405" idx="1"/>
          </p:cNvCxnSpPr>
          <p:nvPr/>
        </p:nvCxnSpPr>
        <p:spPr>
          <a:xfrm flipV="1">
            <a:off x="3094200" y="5417640"/>
            <a:ext cx="81360" cy="5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08" name=""/>
          <p:cNvCxnSpPr/>
          <p:nvPr/>
        </p:nvCxnSpPr>
        <p:spPr>
          <a:xfrm>
            <a:off x="3467160" y="5722920"/>
            <a:ext cx="149760" cy="24984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409" name=""/>
          <p:cNvCxnSpPr/>
          <p:nvPr/>
        </p:nvCxnSpPr>
        <p:spPr>
          <a:xfrm>
            <a:off x="3617640" y="5971680"/>
            <a:ext cx="151560" cy="252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2784600" y="5540400"/>
            <a:ext cx="79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x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5095800"/>
            <a:ext cx="380880" cy="4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286000" y="507060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523880" y="51465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rash!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14" name=""/>
          <p:cNvCxnSpPr/>
          <p:nvPr/>
        </p:nvCxnSpPr>
        <p:spPr>
          <a:xfrm>
            <a:off x="4370400" y="3657240"/>
            <a:ext cx="439344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415" name="fisc_cdm" descr=""/>
          <p:cNvPicPr/>
          <p:nvPr/>
        </p:nvPicPr>
        <p:blipFill>
          <a:blip r:embed="rId5"/>
          <a:stretch/>
        </p:blipFill>
        <p:spPr>
          <a:xfrm>
            <a:off x="6778800" y="3774960"/>
            <a:ext cx="366480" cy="693720"/>
          </a:xfrm>
          <a:prstGeom prst="rect">
            <a:avLst/>
          </a:prstGeom>
          <a:ln w="0">
            <a:noFill/>
          </a:ln>
        </p:spPr>
      </p:pic>
      <p:cxnSp>
        <p:nvCxnSpPr>
          <p:cNvPr id="416" name=""/>
          <p:cNvCxnSpPr/>
          <p:nvPr/>
        </p:nvCxnSpPr>
        <p:spPr>
          <a:xfrm>
            <a:off x="6419880" y="3657240"/>
            <a:ext cx="27828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17" name=""/>
          <p:cNvCxnSpPr>
            <a:endCxn id="415" idx="1"/>
          </p:cNvCxnSpPr>
          <p:nvPr/>
        </p:nvCxnSpPr>
        <p:spPr>
          <a:xfrm flipV="1">
            <a:off x="6697440" y="4122000"/>
            <a:ext cx="81360" cy="540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18" name=""/>
          <p:cNvCxnSpPr/>
          <p:nvPr/>
        </p:nvCxnSpPr>
        <p:spPr>
          <a:xfrm>
            <a:off x="7242120" y="4114440"/>
            <a:ext cx="226080" cy="183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6388200" y="4245120"/>
            <a:ext cx="85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x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6807240" y="3808440"/>
            <a:ext cx="380880" cy="43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807240" y="378288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3859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rash!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3" name=""/>
          <p:cNvCxnSpPr/>
          <p:nvPr/>
        </p:nvCxnSpPr>
        <p:spPr>
          <a:xfrm>
            <a:off x="4495320" y="3657600"/>
            <a:ext cx="244800" cy="3787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424" name="vts3200" descr=""/>
          <p:cNvPicPr/>
          <p:nvPr/>
        </p:nvPicPr>
        <p:blipFill>
          <a:blip r:embed="rId6"/>
          <a:stretch/>
        </p:blipFill>
        <p:spPr>
          <a:xfrm>
            <a:off x="7391520" y="3917880"/>
            <a:ext cx="928440" cy="488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7763040" y="3809880"/>
            <a:ext cx="55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6" name=""/>
          <p:cNvCxnSpPr/>
          <p:nvPr/>
        </p:nvCxnSpPr>
        <p:spPr>
          <a:xfrm>
            <a:off x="7467120" y="3657600"/>
            <a:ext cx="150120" cy="254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152280" y="41911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IT comp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arget device: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before VTS: SNMP-&gt;could not reboot a crashed server or access the server. An administrator  needed to access the server in 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fter VTS: no need to physically access the crash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4267080"/>
            <a:ext cx="5867280" cy="18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Application: Company phon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Company phon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arget device: PB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before VTS: high maintenance costs due to modem line and physical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fter VTS: remote maintenance. convenient and cost-effectiv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vts3200" descr=""/>
          <p:cNvPicPr/>
          <p:nvPr/>
        </p:nvPicPr>
        <p:blipFill>
          <a:blip r:embed="rId1"/>
          <a:stretch/>
        </p:blipFill>
        <p:spPr>
          <a:xfrm>
            <a:off x="3975120" y="5149800"/>
            <a:ext cx="928800" cy="488880"/>
          </a:xfrm>
          <a:prstGeom prst="rect">
            <a:avLst/>
          </a:prstGeom>
          <a:ln w="0">
            <a:noFill/>
          </a:ln>
        </p:spPr>
      </p:pic>
      <p:cxnSp>
        <p:nvCxnSpPr>
          <p:cNvPr id="433" name=""/>
          <p:cNvCxnSpPr/>
          <p:nvPr/>
        </p:nvCxnSpPr>
        <p:spPr>
          <a:xfrm>
            <a:off x="1627200" y="4411800"/>
            <a:ext cx="4698000" cy="21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34" name=""/>
          <p:cNvCxnSpPr/>
          <p:nvPr/>
        </p:nvCxnSpPr>
        <p:spPr>
          <a:xfrm>
            <a:off x="2312640" y="5181120"/>
            <a:ext cx="68508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435" name=""/>
          <p:cNvCxnSpPr/>
          <p:nvPr/>
        </p:nvCxnSpPr>
        <p:spPr>
          <a:xfrm>
            <a:off x="4554360" y="4081320"/>
            <a:ext cx="175680" cy="3391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36" name=""/>
          <p:cNvCxnSpPr/>
          <p:nvPr/>
        </p:nvCxnSpPr>
        <p:spPr>
          <a:xfrm>
            <a:off x="3871440" y="4411800"/>
            <a:ext cx="423000" cy="70524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4346640" y="50418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880240" y="43736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646440" y="3276720"/>
            <a:ext cx="1600200" cy="804600"/>
            <a:chOff x="3646440" y="3276720"/>
            <a:chExt cx="1600200" cy="804600"/>
          </a:xfrm>
        </p:grpSpPr>
        <p:grpSp>
          <p:nvGrpSpPr>
            <p:cNvPr id="440" name=""/>
            <p:cNvGrpSpPr/>
            <p:nvPr/>
          </p:nvGrpSpPr>
          <p:grpSpPr>
            <a:xfrm>
              <a:off x="3646440" y="3276720"/>
              <a:ext cx="1600200" cy="804600"/>
              <a:chOff x="3646440" y="3276720"/>
              <a:chExt cx="1600200" cy="804600"/>
            </a:xfrm>
          </p:grpSpPr>
          <p:sp>
            <p:nvSpPr>
              <p:cNvPr id="441" name=""/>
              <p:cNvSpPr/>
              <p:nvPr/>
            </p:nvSpPr>
            <p:spPr>
              <a:xfrm>
                <a:off x="4143960" y="3301200"/>
                <a:ext cx="391320" cy="268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64000" y="3276720"/>
                <a:ext cx="320040" cy="219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9120" y="3495960"/>
                <a:ext cx="497520" cy="3423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24280" y="3641400"/>
                <a:ext cx="568800" cy="390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05840" y="3690720"/>
                <a:ext cx="425880" cy="291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82440" y="3715200"/>
                <a:ext cx="31896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46440" y="3544920"/>
                <a:ext cx="32004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89000" y="3350160"/>
                <a:ext cx="498240" cy="340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16320" y="3739680"/>
                <a:ext cx="496440" cy="341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19320" y="3373920"/>
                <a:ext cx="390600" cy="2685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11680" y="3276720"/>
                <a:ext cx="356400" cy="2437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3776760" y="3341520"/>
              <a:ext cx="1379160" cy="635040"/>
            </a:xfrm>
            <a:custGeom>
              <a:avLst/>
              <a:gdLst/>
              <a:ahLst/>
              <a:rect l="l" t="t" r="r" b="b"/>
              <a:pathLst>
                <a:path w="1447" h="1011">
                  <a:moveTo>
                    <a:pt x="447" y="103"/>
                  </a:moveTo>
                  <a:lnTo>
                    <a:pt x="507" y="29"/>
                  </a:lnTo>
                  <a:lnTo>
                    <a:pt x="777" y="34"/>
                  </a:lnTo>
                  <a:lnTo>
                    <a:pt x="968" y="0"/>
                  </a:lnTo>
                  <a:lnTo>
                    <a:pt x="1210" y="122"/>
                  </a:lnTo>
                  <a:lnTo>
                    <a:pt x="1331" y="88"/>
                  </a:lnTo>
                  <a:lnTo>
                    <a:pt x="1396" y="103"/>
                  </a:lnTo>
                  <a:lnTo>
                    <a:pt x="1410" y="402"/>
                  </a:lnTo>
                  <a:lnTo>
                    <a:pt x="1447" y="450"/>
                  </a:lnTo>
                  <a:lnTo>
                    <a:pt x="1336" y="683"/>
                  </a:lnTo>
                  <a:lnTo>
                    <a:pt x="1215" y="523"/>
                  </a:lnTo>
                  <a:lnTo>
                    <a:pt x="1182" y="606"/>
                  </a:lnTo>
                  <a:lnTo>
                    <a:pt x="1010" y="924"/>
                  </a:lnTo>
                  <a:lnTo>
                    <a:pt x="437" y="1011"/>
                  </a:lnTo>
                  <a:lnTo>
                    <a:pt x="140" y="949"/>
                  </a:lnTo>
                  <a:lnTo>
                    <a:pt x="46" y="751"/>
                  </a:lnTo>
                  <a:lnTo>
                    <a:pt x="46" y="547"/>
                  </a:lnTo>
                  <a:lnTo>
                    <a:pt x="0" y="378"/>
                  </a:lnTo>
                  <a:lnTo>
                    <a:pt x="447" y="10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027320" y="3463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54" name=""/>
          <p:cNvCxnSpPr/>
          <p:nvPr/>
        </p:nvCxnSpPr>
        <p:spPr>
          <a:xfrm>
            <a:off x="3341160" y="5189040"/>
            <a:ext cx="150120" cy="25020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455" name=""/>
          <p:cNvCxnSpPr/>
          <p:nvPr/>
        </p:nvCxnSpPr>
        <p:spPr>
          <a:xfrm>
            <a:off x="3492000" y="5438520"/>
            <a:ext cx="469080" cy="147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3003480" y="4648320"/>
            <a:ext cx="6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7" name="prd_lg_3C16120" descr="3Com® SuperStack® 3 Server Load Balancer"/>
          <p:cNvPicPr/>
          <p:nvPr/>
        </p:nvPicPr>
        <p:blipFill>
          <a:blip r:embed="rId2"/>
          <a:stretch/>
        </p:blipFill>
        <p:spPr>
          <a:xfrm>
            <a:off x="2998800" y="4916520"/>
            <a:ext cx="685800" cy="264960"/>
          </a:xfrm>
          <a:prstGeom prst="rect">
            <a:avLst/>
          </a:prstGeom>
          <a:ln w="0">
            <a:noFill/>
          </a:ln>
        </p:spPr>
      </p:pic>
      <p:pic>
        <p:nvPicPr>
          <p:cNvPr id="458" name="iffcom" descr=""/>
          <p:cNvPicPr/>
          <p:nvPr/>
        </p:nvPicPr>
        <p:blipFill>
          <a:blip r:embed="rId3"/>
          <a:stretch/>
        </p:blipFill>
        <p:spPr>
          <a:xfrm>
            <a:off x="1779480" y="4724280"/>
            <a:ext cx="571680" cy="430200"/>
          </a:xfrm>
          <a:prstGeom prst="rect">
            <a:avLst/>
          </a:prstGeom>
          <a:ln w="0">
            <a:noFill/>
          </a:ln>
        </p:spPr>
      </p:pic>
      <p:cxnSp>
        <p:nvCxnSpPr>
          <p:cNvPr id="459" name=""/>
          <p:cNvCxnSpPr/>
          <p:nvPr/>
        </p:nvCxnSpPr>
        <p:spPr>
          <a:xfrm>
            <a:off x="2238480" y="4952520"/>
            <a:ext cx="76104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460" name="iffcom" descr=""/>
          <p:cNvPicPr/>
          <p:nvPr/>
        </p:nvPicPr>
        <p:blipFill>
          <a:blip r:embed="rId4"/>
          <a:stretch/>
        </p:blipFill>
        <p:spPr>
          <a:xfrm>
            <a:off x="2046240" y="5105520"/>
            <a:ext cx="571680" cy="4302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398600" y="4800600"/>
            <a:ext cx="81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5257800"/>
            <a:ext cx="7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Re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ca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imize server and network up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target de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work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mation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porate/Telco/IDC network administrator, Telco device administra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 and development engineer of console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ction and notification of server 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active reaction and information storage to device’ mal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ution to network down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competi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ice independent platform that enables local/remote connection when network is 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ux flexibility and facile customiz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fects of network-d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9144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mages of network downti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related tasks are not executed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related actions cannot be take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gration to an other competitor compan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on-line transa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 red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941720"/>
            <a:ext cx="3886200" cy="139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equent service downs and no immediate action in major domestic portal sites increase customers’ dissatisfaction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ectronic Times 2003/3/4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ffects of network-dow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1733400"/>
          <a:ext cx="7772400" cy="4133880"/>
        </p:xfrm>
        <a:graphic>
          <a:graphicData uri="http://schemas.openxmlformats.org/drawingml/2006/table">
            <a:tbl>
              <a:tblPr/>
              <a:tblGrid>
                <a:gridCol w="1981440"/>
                <a:gridCol w="4305240"/>
                <a:gridCol w="1485720"/>
              </a:tblGrid>
              <a:tr h="380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opportunity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employ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burdened labor rate ($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opportunity cost per outag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opportunity cost($/y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6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produ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s affected per ou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burdened labor rate($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user productivity per outag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user productivity($/y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6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ly server revenu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revenue per outag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Business revenue($/y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nnual costs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 example of small to medium size IT 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 case network goes down twice a month and it lasts one hour on every single downtime (0.3% downtim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tors and solutions to network-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48280" y="2743200"/>
          <a:ext cx="3119400" cy="30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8280" y="2743200"/>
                    <a:ext cx="311940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391520" y="380376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plication Prog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441324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5791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ef: Gartner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27024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1600200"/>
          <a:ext cx="5943600" cy="2822400"/>
        </p:xfrm>
        <a:graphic>
          <a:graphicData uri="http://schemas.openxmlformats.org/drawingml/2006/table">
            <a:tbl>
              <a:tblPr/>
              <a:tblGrid>
                <a:gridCol w="2265480"/>
                <a:gridCol w="2031840"/>
                <a:gridCol w="1646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ors of network-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b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band, out-of-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rastructure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, network hardware,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-of-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cessity of out-of-band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Verdana"/>
              </a:rPr>
              <a:t>in-band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based on data network (LAN or W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NMP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HP OpenView, IBM Tivoli, BMC Pa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Verdana"/>
              </a:rPr>
              <a:t>out-of-band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direct access to the device’ management 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Verdana"/>
              </a:rPr>
              <a:t>solves 60% of network-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Verdana"/>
              </a:rPr>
              <a:t>only solution to 20% of network-dow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-of-band management solu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008000"/>
          <a:ext cx="8305920" cy="5160960"/>
        </p:xfrm>
        <a:graphic>
          <a:graphicData uri="http://schemas.openxmlformats.org/drawingml/2006/table">
            <a:tbl>
              <a:tblPr/>
              <a:tblGrid>
                <a:gridCol w="1828800"/>
                <a:gridCol w="3200400"/>
                <a:gridCol w="32767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 &amp; c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te management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x - Telnet,SSH,X-Windows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ly in-band management under specific 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 - MS Terminal Service, PC Anywhere, Carbon Copy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VM multiplexer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te delivery via KVM over 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applicable to non-KVM device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out-of-band managemen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price, bandwidth dem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bedded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bedded management toolkit in a de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ial consol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d as ‘COM’,  ‘AUX’, ’Console’, provides configuration tools/ BIOS/ OS Console/ etc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al management port, Accessibility deteriorates as the number of nodes increa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ole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vice to access multiple console devices with various management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/remote control, security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 console ser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are free of chare but hardware is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rial console 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ices with serial console 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ix/Linux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ndows Server/P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twork dev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router, switch, firewall, gateway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UPS, power supply unit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lepho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PBX, switch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vironmental contr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sensor, HVAC, alarm, actuator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0440" indent="-190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s. &amp; c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ilable in most devices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niversal management 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availabil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available even in network or system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w level control or monito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BIOS, OS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imited accessibility : physical access to a de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ifficulty in integrated management : difficult to manage increasing number of de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6:30:53Z</dcterms:created>
  <dc:creator>Sena Technologies, Inc.</dc:creator>
  <dc:description/>
  <dc:language>en-US</dc:language>
  <cp:lastModifiedBy>Kumar, Raju</cp:lastModifiedBy>
  <dcterms:modified xsi:type="dcterms:W3CDTF">2003-10-27T09:44:23Z</dcterms:modified>
  <cp:revision>1202</cp:revision>
  <dc:subject/>
  <dc:title>Corporate Overview</dc:title>
</cp:coreProperties>
</file>